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752-DFAE-46B4-BE67-A0DFC110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DA9-EAEA-44B8-ADA7-937BD46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AF5-F514-4300-9931-D58C1C52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133-0D1C-49AA-8280-C014F96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4AA-EAF1-44F6-88B2-F1785ADA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5F8-65A5-4BF1-8FF9-D91034B9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0E4-5338-435D-9196-3FC3FDB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B42-336C-4512-B0A2-15389671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DBE-2EB1-414C-89FA-B7109078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2D1-ECA7-4C2C-A981-A174B00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86C-6DA9-4592-B26A-FF19DDFA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40A-52E3-40D6-8A7F-3E7A864C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DACC-E15A-4FC9-878C-715ADAD2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o.wikipedia.org/wiki/Lun&#259;" TargetMode="External"/><Relationship Id="rId2" Type="http://schemas.openxmlformats.org/officeDocument/2006/relationships/hyperlink" Target="http://www.google.ro/images?hl=ro&amp;q=luna&amp;um=1&amp;ie=UTF-8&amp;source=og&amp;sa=N&amp;tab=wi&amp;biw=1408&amp;bih=636" TargetMode="External"/><Relationship Id="rId3" Type="http://schemas.openxmlformats.org/officeDocument/2006/relationships/hyperlink" Target="http://www.google.ro/images?hl=ro&amp;q=luna&amp;um=1&amp;ie=UTF-8&amp;source=og&amp;sa=N&amp;tab=wi&amp;biw=1408&amp;bih=636" TargetMode="External"/><Relationship Id="rId4" Type="http://schemas.openxmlformats.org/officeDocument/2006/relationships/hyperlink" Target="http://www.google.ro/images?hl=ro&amp;q=luna&amp;um=1&amp;ie=UTF-8&amp;source=og&amp;sa=N&amp;tab=wi&amp;biw=1408&amp;bih=636" TargetMode="External"/><Relationship Id="rId5" Type="http://schemas.openxmlformats.org/officeDocument/2006/relationships/hyperlink" Target="http://www.google.ro/images?hl=ro&amp;q=luna&amp;um=1&amp;ie=UTF-8&amp;source=og&amp;sa=N&amp;tab=wi&amp;biw=1408&amp;bih=636" TargetMode="External"/><Relationship Id="rId6" Type="http://schemas.openxmlformats.org/officeDocument/2006/relationships/hyperlink" Target="http://www.google.ro/images?hl=ro&amp;q=luna&amp;um=1&amp;ie=UTF-8&amp;source=og&amp;sa=N&amp;tab=wi&amp;biw=1408&amp;bih=636" TargetMode="External"/><Relationship Id="rId7" Type="http://schemas.openxmlformats.org/officeDocument/2006/relationships/hyperlink" Target="http://www.google.ro/images?hl=ro&amp;q=luna&amp;um=1&amp;ie=UTF-8&amp;source=og&amp;sa=N&amp;tab=wi&amp;biw=1408&amp;bih=636" TargetMode="External"/><Relationship Id="rId8" Type="http://schemas.openxmlformats.org/officeDocument/2006/relationships/hyperlink" Target="http://www.google.ro/images?hl=ro&amp;q=luna&amp;um=1&amp;ie=UTF-8&amp;source=og&amp;sa=N&amp;tab=wi&amp;biw=1408&amp;bih=636" TargetMode="External"/><Relationship Id="rId9" Type="http://schemas.openxmlformats.org/officeDocument/2006/relationships/hyperlink" Target="http://www.google.ro/images?hl=ro&amp;q=luna&amp;um=1&amp;ie=UTF-8&amp;source=og&amp;sa=N&amp;tab=wi&amp;biw=1408&amp;bih=636" TargetMode="External"/><Relationship Id="rId10" Type="http://schemas.openxmlformats.org/officeDocument/2006/relationships/hyperlink" Target="http://www.google.ro/images?hl=ro&amp;q=luna&amp;um=1&amp;ie=UTF-8&amp;source=og&amp;sa=N&amp;tab=wi&amp;biw=1408&amp;bih=636" TargetMode="External"/><Relationship Id="rId11" Type="http://schemas.openxmlformats.org/officeDocument/2006/relationships/hyperlink" Target="http://www.google.ro/images?hl=ro&amp;q=luna&amp;um=1&amp;ie=UTF-8&amp;source=og&amp;sa=N&amp;tab=wi&amp;biw=1408&amp;bih=636" TargetMode="External"/><Relationship Id="rId12" Type="http://schemas.openxmlformats.org/officeDocument/2006/relationships/hyperlink" Target="http://www.google.ro/images?hl=ro&amp;q=luna&amp;um=1&amp;ie=UTF-8&amp;source=og&amp;sa=N&amp;tab=wi&amp;biw=1408&amp;bih=636" TargetMode="External"/><Relationship Id="rId13" Type="http://schemas.openxmlformats.org/officeDocument/2006/relationships/hyperlink" Target="http://www.google.ro/images?hl=ro&amp;q=luna&amp;um=1&amp;ie=UTF-8&amp;source=og&amp;sa=N&amp;tab=wi&amp;biw=1408&amp;bih=636" TargetMode="External"/><Relationship Id="rId14" Type="http://schemas.openxmlformats.org/officeDocument/2006/relationships/hyperlink" Target="http://www.google.ro/images?hl=ro&amp;q=luna&amp;um=1&amp;ie=UTF-8&amp;source=og&amp;sa=N&amp;tab=wi&amp;biw=1408&amp;bih=636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un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este singurul satelit natural 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ulu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 Numele de "lună" se aplică uneori și sateliților altor planete din sistemul nostru solar. Vârsta Lunii este de aproximativ 4,60 miliarde de an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404640"/>
            <a:ext cx="396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Luna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9152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Bibliograf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o.wikipedia.org/wiki/Lun%C4%8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oogle.ro/images?h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o&amp;q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una&amp;u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=1&amp;ie=UTF-8&amp;source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g&amp;s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&amp;tab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&amp;bi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1408&amp;bih=6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ori: Neagu Adria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duva Ge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697800" cy="5861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una are o rază medie de 1.737 km, de 4 ori mai mică decât a Pămâ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u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și orbitează în jurul acestuia la o distanță medie de 384.403 km; pentru a ajunge pe Pământ lumina Lunii are nevoie de ceva mai mult decât o secundă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602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92720" y="620280"/>
            <a:ext cx="3394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azele Lun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Luna se poate observa cel mai bine cu două zile înainte de Primul Pătrar până la Lună Plină. Acest interval în care Luna este vizibilă durează 9 zi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924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le l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l Arm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iulie 1969, Ne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ostrong a fo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ul om care a p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 Lu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46580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95928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8000" y="333000"/>
            <a:ext cx="353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artea vizibilă a Lunii e plină de cratere provocate de ciocniri cu asteroizi sau meteoriți ce au avut loc în perioada de tinerețe a sistemului So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814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tul v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ut de pe Lun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587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416720" cy="5973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3:07:11Z</dcterms:created>
  <dc:creator>elev</dc:creator>
  <dc:description/>
  <dc:language>en-US</dc:language>
  <cp:lastModifiedBy>elev</cp:lastModifiedBy>
  <dcterms:modified xsi:type="dcterms:W3CDTF">2011-03-03T14:25:04Z</dcterms:modified>
  <cp:revision>5</cp:revision>
  <dc:subject/>
  <dc:title>     </dc:title>
</cp:coreProperties>
</file>